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990F-FAE5-4BC0-9BBD-0DC5294872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9BD3-406D-4FE2-A90F-8237CB567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8C935-7AAD-4D04-87C0-C617D7F6BB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725A9-5951-492D-A3CD-EE210B77FE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602B2-D5E7-407A-B66B-2164E1995E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0660B-F35F-403C-A0D4-A9E852B894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4A07-176B-4DED-889B-785D69ED68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930A-1735-4710-8777-6FFCDDF065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D1C-4F71-4364-BD26-4D88DB5D56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4B64-EBA3-4550-A522-E6AEF001B0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59B8-71CB-4BF5-B882-B60992B0BD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EBEC-0401-4C5F-963D-17CC884127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007D-A266-4631-808A-3225122C74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75E11-B716-4CDD-92CC-3D5B1CC21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99AF-AC19-4341-8BDA-FC474B6761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D68E-AA6B-4B53-B60B-E8E00F4055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A822-F733-4892-9F76-57A88965CB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B459-FF82-4444-AF19-9AD2553C3E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810-AAF2-40D1-96BA-93A90AF1B3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DB147-6F66-4971-8943-773A96812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E477B-B09B-4B09-B341-FECD18FF5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95724-86DE-4425-9B03-911FED8062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D5094-5370-4B81-B667-63C66F2255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4DAA6-8DEF-4E4B-858F-AA9325FBF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FE12F-9BA3-4356-BE55-1E54457F1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83A52-6E7A-4B16-A8DA-7C11F50D1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Improvement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672D-96A9-4553-A8F9-71AEA982E8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ECAA-3900-4B85-A86E-695AC7C8B4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1"/>
          <p:cNvSpPr/>
          <p:nvPr/>
        </p:nvSpPr>
        <p:spPr>
          <a:xfrm>
            <a:off x="457200" y="6429240"/>
            <a:ext cx="281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е процессов – Тема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0735-5F74-4DDC-83F1-24511FFCF5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3124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560" y="1062000"/>
            <a:ext cx="8458200" cy="526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Verdana"/>
              </a:rPr>
              <a:t>«В вашей лаборатории были выявлены проблемы с пробами, поступающими в лабораторию из определенной поликлиники. Некоторые пробы транспортировались в лабораторию явно с задержкой, а ряд проб был собран в неподходящие контейнеры. Эти проблемы приводили к задержкам в выполнении анализов и к отказам в приеме проб. Для исправления ситуации был проведен ряд улучшений в ведении записей и на месте сбора проб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48769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2-08-04T06:45:48Z</dcterms:modified>
  <cp:revision>66</cp:revision>
  <dc:subject/>
  <dc:title>Slide 1</dc:title>
</cp:coreProperties>
</file>